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A643-5990-4DCC-A652-1DEFB656A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84B-939D-4EC3-840F-4264C8B5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C1031-F869-49A6-A93C-0D993E4F0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1E35F-E5D3-48F5-8DE8-E5E65052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DFBDB-310F-47B0-AE7E-0E85127ED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278D05-E958-427A-A07F-41941CEA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16C552-ECF0-4B62-A295-E48055E8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B416F4-87A8-45A9-A29D-2FE0B81E2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78ABA-4BF2-4A82-B205-A88F2E7DE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C9103-C22E-4E92-9219-4E722569E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0E6757-A7E5-49AF-AF92-C36F971C2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8095FF-94CA-4844-9569-F758FC47E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2F2-FCBD-4694-AD5E-7951AAA85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6BED9C-2F59-47A4-B6CC-9EB30167C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DBDC05-D97B-458E-B899-FA32CC6D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C4436-1C94-4946-BB9C-E3F60861E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B0EF7E-B20D-4264-8898-92186ADED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0D53E9-1A65-46DD-87E0-B76E809A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990BC2-F971-4C04-BFA1-441D2E0F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D42CF5-69DC-4D06-A547-01728AE43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EEE7E4-65AC-4385-B1CC-B786DB04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3132E1-5F79-43AF-86F7-95EAA31D9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DCC4E7-6331-4B2E-9D50-A2365E90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5E4C-50DD-4C69-9D50-E5CF2A25D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2FF2E-8FE8-4B82-931F-B06620F6CA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E0058D-5D22-40D6-BFA3-D4F4E8C21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8876F5-7033-4D1F-BA7A-66D405E81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6ECD7D-8151-4DBA-99CD-B6F7728F6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A47737-F365-4030-B824-D82B92E4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5DD0AB-59C7-460D-B618-3A43DBE3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92FEC2-6FA1-4821-BAA2-0766320B0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DE8494-B108-4DF3-AE9D-BDF964D7E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4DC329-C6C4-46E0-BB42-7449D4483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4D742C-B792-46A1-A098-B9186CF48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210E6-9E1B-480E-9C71-4A33353E2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A59692-82BF-4613-AFCF-CE7441F6C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A2A755-1051-4020-BBDB-E4F1A4E3B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89131-4038-43CE-85C7-1092BAE2A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A6808B-C58E-42E1-9E7A-9DB01A355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C0DD65-FADD-4539-BE88-3F2C9430F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069BB1-3B00-49DF-A332-04A4851DB8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EAEE159-5C3F-46C2-9836-072F01B4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3D3A83-B161-4701-A501-B5D28A8F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D08E325-5A31-46C4-A649-95AC29955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825377-F4C7-4A0D-9630-C450DC7C2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67B04-D177-4D65-9A12-9DE23699B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44C23A-3C61-4ECF-A73F-6AA4C6C6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D00B5-95C4-4469-AC52-C32198DD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41C9FA9-CFA6-4F2B-B07A-26E691C87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2C7712-1094-472C-9DFD-B3F991DAE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1D40ED-745B-4AE9-B105-5AA460AEB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2CA9E7-FEA2-4E6F-898D-F7879067F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B96E23-D5D8-458B-B079-0C515CBC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02ED5D-4DF8-4261-86B5-D7B1093EA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63379B-96B1-4B96-88DB-A9A1AE1D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3ED9D0-5BED-4CCA-869F-3A20BD12F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61FA9-B998-46F9-A117-E2B2B942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BFB81C-A4B3-4313-B8C5-0491CA316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A5CEC4-261D-4E72-B01E-41B54365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6F6038-852B-4922-950B-54E4B7CC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993930-E732-464E-A1A0-8DD52DC4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801A0C-1AE4-45D0-86D9-D1567BFD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4FE25E8-42FF-46E5-BC0D-BD6F2774B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9BC31B-F858-4B27-A355-7CC37C7A4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F67128-AD7D-4DF7-B2DF-E83461727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0FE40F9-760B-4F8B-A853-DCA9067B1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023FC1-F9F9-4EBA-B04E-1F983473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8C24-02FB-4C92-8959-BFFCAC776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DFF40E-EF67-4809-8A4C-B7577A69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5252C-9E2F-4A55-9FF5-B29918F3C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F11433-5C80-4E2F-9EEA-F88BDF1E5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54FFFA-0D52-49B2-B913-9353AA94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95DF69-7030-4BEF-BB4F-7D0B13EB8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A46DED-B7AC-43F5-92D6-9B6A216A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4CD38-CD41-40D3-8849-4D90F3711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522FCD-3908-4BC1-95DB-83228D6F0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2C3DA0-D4DE-4D55-938A-77C985381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653695-5AA5-4417-8B57-F1A720101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3923-D6C9-4448-8205-BBF6AE086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4C5E00-9B9F-4CD8-A6E9-A3187C77F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08D8BD-750A-43EF-8B36-4FE38755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5E675E-0725-47AF-9569-3CB524021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66C45C-C24C-4558-A284-F3CD0A6A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D26584C-7AB7-4492-947D-6D8669B66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704E40-FEA5-4858-96C1-C4934B5E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BC983A-93E8-4591-AC18-D0870E5A6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761C8C-FD0B-4E28-9336-6308895B7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B0E891-7AD8-4980-A1A1-96DBD98D9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0BA06E-8B29-4834-9439-339E16B93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F7510-AA51-49BB-B155-C83B9CBB9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36EF22-757A-4308-9F4F-D0A0AEC04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53AE6A-ED5D-4DFD-8336-D3F060BF4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3A31A-EF75-4A59-AA20-E70DA2B3A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800735-8381-4E35-A3C0-43CCDBCC2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4750863-3F77-4388-B355-41C79B39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5C4C06-7EA2-4334-85F4-6D8DF26B9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6DD592-AEDD-4862-B2C4-11BC23A75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B5AF3C-45FC-43C9-A678-C2D4CC835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480481-B06A-4633-924B-1B470AC1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348671-C2FD-4356-B883-F4862E3C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CE163-D2C5-47F1-A1DD-A369C1516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07EFD-BC84-47ED-8F57-36A5C264C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F84F32-3EFA-4358-8D5D-3D18A58B3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8958C9-7206-4F36-9F28-CB4A2B383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1279B4-DF38-4A97-AECE-6F23F9BB4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F31103-33E3-480A-A670-35EFD4BF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DE8555-B002-4AF6-BA73-8436D99F4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6FC343-C656-4F3A-8195-84547588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6928A9B-1B57-4C2C-A97E-550BCA95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7808CB-91CD-4ED0-991D-34844734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C4F80C-0AD6-4E46-99F3-00F7B3EC6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03430-4172-4405-86FF-5A4F59D83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28888-DC0F-4066-8301-E5FB1E187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A7B2D8-4241-49D5-8D69-30628106D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A89F13-7EE3-477F-8CFC-CCF68258B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CDE129-CCFB-401D-AC6F-E0A52162A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3B498C-0574-4E7D-879A-93359A56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E687F6-F21F-49DD-9B36-5A1099C5A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A7A277-EC66-42D9-9689-2E8DD1408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F73B29-8333-4784-9CFA-133AD3D6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264254-FF89-4877-B1E3-04CF5AEA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D6D5A4-8C8F-4F4C-AB70-176C7F42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16FA03-B61B-4701-94E8-1BBEA7A3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7CC6-C6C2-4465-A774-D4C676B36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E7B6AC-E444-4433-ABF3-7A43593B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19F0E9-4E9F-4F79-B539-C65EBB914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61C9FC-634A-4624-A6E8-F6ED717F7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85072-A1D7-4852-9E23-82964726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A102FB-F722-45A4-8241-EA88893DF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BF3584-5386-4258-9752-ED9228AA8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F05FB9-41B3-4C08-81FB-196159DF0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C42AAA-326B-46BB-833B-3A4392E68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F83EF3-65C5-4DA8-9033-6A0457FFD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3409A-0C54-442C-9411-F2881A8AF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68883-EEF8-428F-92F3-FAD00707A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09DCB2-D05A-412A-9A3E-4BB967F05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96BD29-9ADC-4E42-95A0-D6A05FBA0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E6A751-0CE8-4ADF-945D-7C6BFA1FE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3C767B-3FF0-4A32-ABC1-97E4CF45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BD1A80-9412-4868-9C48-9F80FE37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B1DCA9-E335-4675-BD76-F38DAB7E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99E20A-45C8-4091-BEBE-0EFAB4FF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E72AC7F-9960-4BC3-A974-27F840340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F8BC733-1C80-43A8-9D9B-7C72F25A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A3563C-C1CF-42F4-A481-D33D926D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20D0B-165C-432F-84AD-93A7CF506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4E0019-D081-49B7-9DB0-B2E0B4DA6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46B6A7-087C-4D07-9BEA-37D15BA28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BDE4CF-F631-4F45-BC5A-A636B4E6C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FAE06B3-C4BE-4FF7-9498-ECB7F159E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CA274F-6C63-4C15-8C9D-ABBD8D95D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099B47-DC95-48C3-A113-0BF37B8E3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AF4A9B1-3AC4-40F4-A0D7-1CC43F30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26AFCE-DA86-4BE4-8038-6F345A13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4E879D-CE49-4935-B71D-E5C8205BC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55FB2FF-A346-40E7-8C88-7E348143F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02572-AFB2-40B7-AA8E-E3844A534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CF90576-65D8-4522-B9C8-C8F37E3E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C35EB9-2577-4E35-AF29-DF9416DC2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29C1B8-45D8-48B7-9CA3-871881806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0ED5B7-612F-4956-AD26-B69E535C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6C5CC7-87E5-4E7A-89E3-5361B7099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E0046B-1DD1-4DF6-8EA9-70975955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0447EC-78E1-47C9-BDD6-30A3D888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2D5EA7-A56D-4C10-B417-2F9B64D5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2E1CA7-06EC-4395-BC40-34DD15558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800ADB0-2AE7-496B-B2E7-F9DEC5384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89707C-555D-4606-94B4-76A8D0FE3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FD8BF4-310E-4D6F-AC69-20542A185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8419F6-364A-4826-8984-7B4CF1234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9FA6C7-653B-43ED-A785-B0288FD5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345105-AC60-4FD1-A2C7-8DAA5E9E6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E6E1AA6-3A65-4DFE-BF63-B93B24265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A9C1D76-40AB-4990-87E7-BCDED59BE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B901444-78D7-438E-B3AD-DF126C00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0308F8-2C7D-4F0C-811E-33D5CCFA4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F6262DA-018B-4203-8F74-6D825AD12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2CE2A71-24C8-4544-9762-D764D49E5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A0CC0C-96D7-4740-8393-C652445C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CFFDA45-64A4-4C70-9AD3-CAB9AAD1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F9C3DC-9779-4381-B092-28A818C3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F29F24-EBC3-4A7C-81BA-FC8ABF12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224082E-2193-4DF8-A1BE-0F7588725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0C0EBB0-2E79-4615-86AC-A2BC83BF1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68B130D-846F-476A-8090-ACDE6400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C1EC709-AD2B-40A6-B757-EF9ECA982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F6EC25-46F9-4F56-9E34-7F52A99E3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35776A-D16C-437B-A713-06FCC769D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79D492-4490-46EC-A517-16C79B6F8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AD68A-1879-45BF-BBA4-252623FF4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2A6F63-96EC-4C41-A9C2-67D52CDAC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B6BB53-4A35-4BD4-982F-E4521BEC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D8CF05C-F12A-4B08-BA09-8049FD8C7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64C035-A3B6-4704-9C43-27C45E1E2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8C2A2A-E783-4D77-AA63-157546B3F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68CF95F-9678-4F30-85AD-51D6BAE48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14BA22-8E3D-4327-8068-4592DEB01C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98D056-1CE9-4EBD-A3E2-D7DEA76C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CF523CA-7A6E-4332-A943-01A3E5EED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D5F1803-981E-4E15-8D04-F38837FD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E8228E-64D0-44C1-86CE-8E905F34D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CA8AD2-E8B1-43D4-AD62-273287FF8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BC89A1D-6E35-4584-AEAB-378B19B9E7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6B479DC-77F9-4026-96F4-71831138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D02368C-EB10-440C-BEBB-A0CF591CF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D3A5D5C-AA5F-475B-8FA8-1EE9A8721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77863C-F5A8-4A82-9E26-357F1B83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750E3DC-58A4-4051-A925-3FF4FB25F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041EDC-5649-4EBD-9767-33C1A3F3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D7BB6C5-3B10-445C-BDE4-290943349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61FA29-57A7-411F-89D3-84D85934C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5A255-3182-47AF-BA02-6BD4388EA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ED2C03A-9C51-44DC-B89E-A00E24F81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F262FF-3C6E-4AC1-8E7D-289F493B5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216838-917D-4CBE-ACB9-326014EF9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B7E259-2A41-46F7-8746-290CE87BC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7EDA20-0849-4831-BF15-1B139FAFD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DD4516F-CC44-4050-80C5-7FB64F56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7F21E0-9426-4EAC-839E-D9566CBE0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F1ADA97-D4E1-44B3-8F33-4AE0BE930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20246FC-2D1D-43E7-A63F-7DBC40B9C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89B128-8A8B-4A93-99B0-D23DF789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3684-AFE0-458E-94F0-1BA222240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FE9E03-F619-47AF-9820-782953BDB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7FA6A4A-FBEB-4FBF-AD45-683C7DB71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7F77B2-7AA8-4C40-B6DB-2C2CE8804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94CA31B-4103-4EB8-906A-6E3B6C02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B047E11-4F0E-41A4-8D4C-0E04BDE55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0F724E0-6D84-43CC-BC51-D9F542626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92F261C-9184-4FA3-B276-EB1A3229F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B75ADA-D825-482E-8064-58ABB9454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D390902-127C-4582-8E38-A09C98227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738285F-191A-44BE-A173-36E23627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8EE9B1A-BED4-488E-9CD0-4872BE02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AA5D26-BC7A-44AB-BAF2-32F86098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417290D-E44A-4381-92C9-0E74C4A6F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60C58F-5231-4BDC-937E-DA389B4BF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BD6CB70-C868-4E97-8B52-88BA27EC9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10747AF-ED53-4C09-BBD6-8116A70B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40A12D-6C1A-4B0C-AF27-D3A35900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0C3AFF-2E03-4F90-8C79-4E53ADDD8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50FB0AD-5390-4A01-A5E9-7994F0510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1B7A3F-E4A0-4C59-B1A8-E0EE0927B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99C92B-1EE6-4568-8148-51641CF0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DA2845-C048-4377-8DF0-8270D74F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D8B5B8-D1C4-4E5F-8CC4-97D5C2A26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260678E-69FE-4012-855E-E704BE532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7B2F174-146B-4C6C-806C-C389B7F2A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D2BA68A-8FD9-4AA4-AC16-CA1BBFC4D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AA3C71-DB97-448C-ADA6-06755442B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8F3A1C1-14C2-40E6-A146-8244603F0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1FDF04-2123-47CC-BA4F-1BA9C5789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46F5283-44E9-4B9D-A80B-0842DAD9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438601-30C0-46DB-88B7-7FCCBE6EE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38FA01-CA83-40CD-B403-B0908A1BE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0288C2-D444-466A-BE50-36D7ADB20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5FA421-6CCC-4311-BB90-64EB3B596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F2F5110-9E5C-4E06-B5AD-6139F9E4B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8737044-D5D5-42C3-AF72-43F54642A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EBC063-0DA5-4753-BA34-7FCE12B7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2DE67B-E542-4223-BE11-79FEB9C74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597C6B-FDF0-426F-A370-1BB17FA02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8E975D-4536-4DCA-9FB3-97B9C929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102C593-5A4D-4C35-AF95-78BF1C9F8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B61847E-4258-44A9-A35A-AECDD2125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EB8816A-DDFA-441D-9346-19B257962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DE98A6C-7CE2-46A0-AEC3-735F25FC2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80BA12-6256-49D7-86DB-DDD91E1FB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FA54E68-74E2-4184-B5E6-1ED33D772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9B1539-2E1F-476D-A20F-E7A5DEDE0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3F4F3E-012C-4945-B954-EC0EA7499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1BDB90F-EF03-457B-B43F-6601D891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C50F9CD-9F48-4AE4-ACC3-4DC919E6C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9AA66C1-854A-4D55-833D-15A0CC4B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7434358-7584-4D19-875A-E378316E3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20D1819-2574-43B1-9802-245E9517A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340783F-3A1E-42EC-A68B-C3AED3A44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96B30F5-8ABE-4F1C-A7A8-F044E8B82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DD4415-2F59-410C-9B13-373726E51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0880000-218E-4B47-856B-A4FED7181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630853-6890-4716-A9B9-4FC6D42A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6B7E985-6496-4EC5-A9BD-00275E24B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8A9EFC-2519-47DB-821D-4FB72E44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C4C309C-1F1C-4CA6-9A05-CC626680A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7062DE-E7D6-45D8-BEEC-25F1D0D0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84BCAE9-1D08-4F93-95B4-DB5BB1F6E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10ED104-B233-49DB-B712-AD5E1E591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681F7C8-EB44-4EC9-9F7B-E0EC8BF7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7E4BC3D-8887-4FCE-A7D1-784F6BED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3CEDDD-F981-4AE0-BAC3-E5D89D5AB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7536C2-EA8A-46EB-AD29-0E4FB7871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584482-E19B-4290-9993-4D7F6219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788EA35-9A87-4F5A-BAA8-A7B6681D5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98A7D00-3A27-4F1E-81C4-91DC5FFD8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27C201-1692-4F9D-A551-54D6A2BA1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314AC42-6B06-4A8B-B3B7-C1DE69F22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BD6708-A785-4831-9655-E27A76016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5C2C676-2F68-4E96-B66F-07060F46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3B8C7A2-46E7-4BD9-9DDD-C081AB9CD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1D6CD1E-B90F-44A2-BA99-C9194E958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A3AE3-317E-4507-8F84-3BDF937AC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D2BE425-262D-4633-93E2-79AF0D3E7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CBE4CC0-791E-4A78-9509-1940D9FD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544F35-196A-438E-A47F-D284A3FE5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EC8FF-DA9B-4821-A5D5-02978EA75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3914B7-0789-481C-98BC-12B14643C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60A6-9D8C-4DE1-8740-3905E5D43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91808D-24A5-45F6-9F36-5D0CC045C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006908-EEE2-481C-BB43-AFA36FF0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65E302-DF66-4CD6-B40E-168CAF311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8861E2-CABD-4ECE-A958-1FF3B5397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E055AA-B697-4307-8A83-17C874F95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0F4A9-4C7D-4CEF-A8B8-101A9FC2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81223C-AAC4-4847-82C7-8B68EA9FB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BAAC0F-250F-457A-98AE-7C0F3012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4A1351-5CC0-46AC-BAAB-6F3E2A6A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AA5B6-9003-4CFC-8FB5-1CE6EAA82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F800-40F0-47C1-A66C-AA0D96701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B64E35-E2C1-4A1D-840F-14097486F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D0A12C-0302-4AD8-93BC-96862918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BFD96A-6A61-4CE3-9848-B4E85DE79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CF8E83-1C1A-44B5-8A51-4D3E672BD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D7FC8-ACA2-41E8-8D6A-9AE9F8BCC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9168B3-23A2-4A5A-98C1-541A2C2C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C5C807-4102-444E-A9F9-6DE3EAF9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E8F5E3-5C2F-427E-8B06-2124546F9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B9F8BD-0BC9-427B-8649-85DA2FDC7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D27AF7-5ECD-4C53-9042-837E3646C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8589-5BD4-49CD-8A8B-2E5C5CDB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A2CF06-CA4E-466F-84F7-3251490D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38BC8-41DD-4772-B7D7-127DC4E470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B88B4E-E11E-4CE8-A050-27E447AB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C1E6A-3225-4690-888D-C8C562EEE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C249B6-DEE1-42FB-AB80-944716CD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875F9-79EF-4EBA-9A98-E62065FF5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87725-32A5-411F-A891-A0094ECFD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D0C89E-47AD-4CE0-88A2-2C8B5485E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F154F8-1176-450F-B70D-91C959E9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65C6A2-9615-4F1E-ABD0-9A3847B2C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B1E6-E3C1-484F-BDE5-315E417E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20D5B6-FA14-4EA0-81B2-70B2E8E16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B46C64-A806-468E-92A6-1EBD9ADDF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DDCEAE-CBD7-4A38-980D-51F27B430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331039-751F-4ABD-BF15-AD44A245B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94E41-1E6E-4236-83D4-67F9EEE2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163EA7-E626-4682-B64F-E56456AC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F1A9F6-6B01-420F-AA38-76B7E282F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915705-AD95-4D58-BA08-5D2A5112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7EC27-3281-4247-A798-02F3B3EA9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64EC91-563B-4A91-9DBF-36CEEE78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3D92-642C-4296-9968-25AD03BB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D5318-7F49-4023-9CF0-B94F3B2F5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C9B561-6FAF-44A8-9BF7-78C488D3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E852-AE3F-449A-B268-AC93B650D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26E6CE-57B1-40CC-97ED-B211C31C3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7E4F1D-1B17-471A-973E-D2695802E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454AD5-5A41-450B-834D-65469819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272E96-93FD-4A49-8D72-43A9A574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A5565-182D-4FF5-9B5F-616B5BF5C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C7657-8C58-4DEE-B188-034B76B82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F9AB19-4B34-4448-8464-CDBEAA8A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3EF8-60CC-46FB-A3A4-D9BBDE2B4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76DA42-A044-433F-8A65-892EABB92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90BA5-71A0-4946-865B-EB569494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A5B42-DFA0-4EBC-B632-6E2D8C73F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E8C4BA-A699-4BC3-9C54-292BB8EF2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5B093F-179E-4187-BEB1-CC8A68D20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7B9A3B-1F13-4F11-BE27-65EFC2254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C293D1-1B1C-406B-863F-B81F21DEE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3AC33D-D3E5-41E7-B64E-C4D24ADE4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DB658F-2C73-48E9-917C-A58F52247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879348-B97B-46D5-B1EB-C83D41F97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510C-4B56-4FBD-873E-F08108D2BBB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3AF8-0803-43E8-B9CD-77A4C06850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47543-A1F1-403B-B066-F8528838889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4A5D3-9EBD-431C-A0A4-DB340400B6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22CA-4466-4B4A-BBD7-B8778AB3AA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BA825-3C37-401D-90B3-24B3EF08A4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0E44D-BE2C-4041-89F4-26868DB3D43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B27D-24B0-4965-986B-DB690A6F3B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EEF43-2DB0-4D24-AE2E-3B9AF68C15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AF19B-181F-45CA-A6B1-378E69380E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08C8A-C6E9-4FBB-9DE2-CB64B9A4AE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E6B42-DF32-41FA-905B-5909872338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55586-7ADD-4007-8CD7-4CAB78FEC9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3186-BC64-4CD8-AF35-B52AC03862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DBAE-8709-45B6-94E0-1ECA96A96E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2EB3-BBC5-4E42-9B8F-49DD1DD73F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77563-54C5-4113-9473-35263A0A7C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B63D3-61F5-484E-8EDF-7E09C1431C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7D4DF-B2F4-41E5-87AC-6FCFE33D5A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1A38F-7A63-4A5C-97C2-54DAB6F1BD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3E877-DAD1-4D70-AAFE-6716FAC42E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8D414-DB9A-4E1A-B260-5146AFE637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E02BA-B777-4629-92E8-7C6811F4B0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B8519-190C-45DF-99F0-4C189DB0C7C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0D3D-AA82-4270-912A-2BE8F4E6F4C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0B17-42E3-426D-A1F4-9FD6573CF6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D8F5B-6073-48D4-95AF-763D06E7AB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8BA2-ED5C-49E4-8D94-0B134394ED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6FB23-8053-4183-AAFD-894351D3AEB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BCD9D-4DB3-49CF-BB30-B93BBCA51B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27336-2B40-49CA-BDA6-974DBBC494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FBEAF-E15E-471E-8445-03A77E6EF4C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AF185-4286-4D0A-B51F-ABEBB6F081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B2276-5DAE-406D-B908-6CDFB1A9BF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4B92B-6DB5-4AF4-B3CA-B8A7A5D0F0F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2FB47-E60E-49F5-AD07-88DBEE0A1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34E44-B500-4B13-908D-89FD7AE8E3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B1BB-D3A6-4018-8C47-01B1E771B2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5DB46-BD54-4786-A90B-25F7CF8CA3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7D5C-402E-4390-91B1-4594512E739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64354-B1F7-409E-A530-FC32303476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85642-C1D3-4976-8899-BCF5FAE840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FDE55-ECCA-42CD-A606-A1A1697D3D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AE17-A76D-4C54-9ECF-1ED91BCFC4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28B4C-6B20-4476-97E4-B2EF6409D4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4B0C-8C12-443C-9F39-68EEE36FD6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D953-B98A-47C2-92B2-8FC0607FD6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431C5-A67C-43CD-BD95-9ED115E65FC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591BF-E608-4CFB-B022-A76038DB45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82CDD-74E2-452D-8BC8-6E644D189A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3203640" y="1268280"/>
            <a:ext cx="2352600" cy="6667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1763640" y="2708280"/>
            <a:ext cx="584856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6737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6840" cy="432432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6738"/>
          <p:cNvSpPr/>
          <p:nvPr/>
        </p:nvSpPr>
        <p:spPr>
          <a:xfrm>
            <a:off x="5307120" y="2860560"/>
            <a:ext cx="32256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116739"/>
          <p:cNvSpPr/>
          <p:nvPr/>
        </p:nvSpPr>
        <p:spPr>
          <a:xfrm>
            <a:off x="1446120" y="3343320"/>
            <a:ext cx="55022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116740"/>
          <p:cNvSpPr/>
          <p:nvPr/>
        </p:nvSpPr>
        <p:spPr>
          <a:xfrm>
            <a:off x="2462040" y="4295880"/>
            <a:ext cx="7416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116741"/>
          <p:cNvSpPr/>
          <p:nvPr/>
        </p:nvSpPr>
        <p:spPr>
          <a:xfrm>
            <a:off x="8012160" y="4778280"/>
            <a:ext cx="74124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116742"/>
          <p:cNvSpPr/>
          <p:nvPr/>
        </p:nvSpPr>
        <p:spPr>
          <a:xfrm>
            <a:off x="1459080" y="5273640"/>
            <a:ext cx="46256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115713" descr=""/>
          <p:cNvPicPr/>
          <p:nvPr/>
        </p:nvPicPr>
        <p:blipFill>
          <a:blip r:embed="rId1"/>
          <a:stretch/>
        </p:blipFill>
        <p:spPr>
          <a:xfrm>
            <a:off x="395280" y="1557360"/>
            <a:ext cx="8191440" cy="3238560"/>
          </a:xfrm>
          <a:prstGeom prst="rect">
            <a:avLst/>
          </a:prstGeom>
          <a:ln w="0">
            <a:noFill/>
          </a:ln>
        </p:spPr>
      </p:pic>
      <p:sp>
        <p:nvSpPr>
          <p:cNvPr id="1466" name="矩形 115714"/>
          <p:cNvSpPr/>
          <p:nvPr/>
        </p:nvSpPr>
        <p:spPr>
          <a:xfrm>
            <a:off x="1636560" y="1996920"/>
            <a:ext cx="624852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5715"/>
          <p:cNvSpPr/>
          <p:nvPr/>
        </p:nvSpPr>
        <p:spPr>
          <a:xfrm>
            <a:off x="7667640" y="2492280"/>
            <a:ext cx="51264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8" name="图片 114689" descr=""/>
          <p:cNvPicPr/>
          <p:nvPr/>
        </p:nvPicPr>
        <p:blipFill>
          <a:blip r:embed="rId1"/>
          <a:stretch/>
        </p:blipFill>
        <p:spPr>
          <a:xfrm>
            <a:off x="468360" y="1197000"/>
            <a:ext cx="8172360" cy="492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3665" descr=""/>
          <p:cNvPicPr/>
          <p:nvPr/>
        </p:nvPicPr>
        <p:blipFill>
          <a:blip r:embed="rId1"/>
          <a:stretch/>
        </p:blipFill>
        <p:spPr>
          <a:xfrm>
            <a:off x="539640" y="2060640"/>
            <a:ext cx="8048880" cy="2247840"/>
          </a:xfrm>
          <a:prstGeom prst="rect">
            <a:avLst/>
          </a:prstGeom>
          <a:ln w="0">
            <a:noFill/>
          </a:ln>
        </p:spPr>
      </p:pic>
      <p:sp>
        <p:nvSpPr>
          <p:cNvPr id="1470" name="矩形 113666"/>
          <p:cNvSpPr/>
          <p:nvPr/>
        </p:nvSpPr>
        <p:spPr>
          <a:xfrm>
            <a:off x="5510160" y="2073240"/>
            <a:ext cx="30225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矩形 113667"/>
          <p:cNvSpPr/>
          <p:nvPr/>
        </p:nvSpPr>
        <p:spPr>
          <a:xfrm>
            <a:off x="1611360" y="2556000"/>
            <a:ext cx="6570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3668"/>
          <p:cNvSpPr/>
          <p:nvPr/>
        </p:nvSpPr>
        <p:spPr>
          <a:xfrm>
            <a:off x="6284880" y="3025800"/>
            <a:ext cx="131148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113669"/>
          <p:cNvSpPr/>
          <p:nvPr/>
        </p:nvSpPr>
        <p:spPr>
          <a:xfrm>
            <a:off x="4519440" y="3521160"/>
            <a:ext cx="16369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414360" y="1704960"/>
            <a:ext cx="8315280" cy="3448080"/>
          </a:xfrm>
          <a:prstGeom prst="rect">
            <a:avLst/>
          </a:prstGeom>
          <a:ln w="0">
            <a:noFill/>
          </a:ln>
        </p:spPr>
      </p:pic>
      <p:sp>
        <p:nvSpPr>
          <p:cNvPr id="1435" name="矩形 124930"/>
          <p:cNvSpPr/>
          <p:nvPr/>
        </p:nvSpPr>
        <p:spPr>
          <a:xfrm>
            <a:off x="2843280" y="2708280"/>
            <a:ext cx="1441440" cy="433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124931"/>
          <p:cNvSpPr/>
          <p:nvPr/>
        </p:nvSpPr>
        <p:spPr>
          <a:xfrm>
            <a:off x="2639880" y="3216240"/>
            <a:ext cx="14414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4932"/>
          <p:cNvSpPr/>
          <p:nvPr/>
        </p:nvSpPr>
        <p:spPr>
          <a:xfrm>
            <a:off x="6792840" y="3203640"/>
            <a:ext cx="15242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4933"/>
          <p:cNvSpPr/>
          <p:nvPr/>
        </p:nvSpPr>
        <p:spPr>
          <a:xfrm>
            <a:off x="3808440" y="4168800"/>
            <a:ext cx="19875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4934"/>
          <p:cNvSpPr/>
          <p:nvPr/>
        </p:nvSpPr>
        <p:spPr>
          <a:xfrm>
            <a:off x="6462720" y="4168800"/>
            <a:ext cx="22129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4935"/>
          <p:cNvSpPr/>
          <p:nvPr/>
        </p:nvSpPr>
        <p:spPr>
          <a:xfrm>
            <a:off x="887400" y="4664160"/>
            <a:ext cx="80496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4936"/>
          <p:cNvSpPr/>
          <p:nvPr/>
        </p:nvSpPr>
        <p:spPr>
          <a:xfrm>
            <a:off x="2259000" y="4676760"/>
            <a:ext cx="21686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2" name="图片 123905" descr=""/>
          <p:cNvPicPr/>
          <p:nvPr/>
        </p:nvPicPr>
        <p:blipFill>
          <a:blip r:embed="rId1"/>
          <a:stretch/>
        </p:blipFill>
        <p:spPr>
          <a:xfrm>
            <a:off x="433440" y="1623960"/>
            <a:ext cx="8277120" cy="3610080"/>
          </a:xfrm>
          <a:prstGeom prst="rect">
            <a:avLst/>
          </a:prstGeom>
          <a:ln w="0">
            <a:noFill/>
          </a:ln>
        </p:spPr>
      </p:pic>
      <p:sp>
        <p:nvSpPr>
          <p:cNvPr id="1443" name="矩形 123906"/>
          <p:cNvSpPr/>
          <p:nvPr/>
        </p:nvSpPr>
        <p:spPr>
          <a:xfrm>
            <a:off x="7846920" y="3813120"/>
            <a:ext cx="5130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4" name="图片 122881" descr=""/>
          <p:cNvPicPr/>
          <p:nvPr/>
        </p:nvPicPr>
        <p:blipFill>
          <a:blip r:embed="rId1"/>
          <a:stretch/>
        </p:blipFill>
        <p:spPr>
          <a:xfrm>
            <a:off x="395280" y="1413000"/>
            <a:ext cx="828684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1857" descr=""/>
          <p:cNvPicPr/>
          <p:nvPr/>
        </p:nvPicPr>
        <p:blipFill>
          <a:blip r:embed="rId1"/>
          <a:stretch/>
        </p:blipFill>
        <p:spPr>
          <a:xfrm>
            <a:off x="447840" y="1467000"/>
            <a:ext cx="8248320" cy="392400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1858"/>
          <p:cNvSpPr/>
          <p:nvPr/>
        </p:nvSpPr>
        <p:spPr>
          <a:xfrm>
            <a:off x="6716880" y="1514520"/>
            <a:ext cx="18158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59"/>
          <p:cNvSpPr/>
          <p:nvPr/>
        </p:nvSpPr>
        <p:spPr>
          <a:xfrm>
            <a:off x="1484280" y="2009880"/>
            <a:ext cx="18162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121860"/>
          <p:cNvSpPr/>
          <p:nvPr/>
        </p:nvSpPr>
        <p:spPr>
          <a:xfrm>
            <a:off x="6564240" y="2467080"/>
            <a:ext cx="81612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121861"/>
          <p:cNvSpPr/>
          <p:nvPr/>
        </p:nvSpPr>
        <p:spPr>
          <a:xfrm>
            <a:off x="2843280" y="4879800"/>
            <a:ext cx="151272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20833" descr=""/>
          <p:cNvPicPr/>
          <p:nvPr/>
        </p:nvPicPr>
        <p:blipFill>
          <a:blip r:embed="rId1"/>
          <a:stretch/>
        </p:blipFill>
        <p:spPr>
          <a:xfrm>
            <a:off x="395280" y="1268280"/>
            <a:ext cx="8305920" cy="48769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20834"/>
          <p:cNvSpPr/>
          <p:nvPr/>
        </p:nvSpPr>
        <p:spPr>
          <a:xfrm>
            <a:off x="7821720" y="3317760"/>
            <a:ext cx="51264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9809" descr=""/>
          <p:cNvPicPr/>
          <p:nvPr/>
        </p:nvPicPr>
        <p:blipFill>
          <a:blip r:embed="rId1"/>
          <a:stretch/>
        </p:blipFill>
        <p:spPr>
          <a:xfrm>
            <a:off x="395280" y="1125360"/>
            <a:ext cx="8296200" cy="2467080"/>
          </a:xfrm>
          <a:prstGeom prst="rect">
            <a:avLst/>
          </a:prstGeom>
          <a:ln w="0">
            <a:noFill/>
          </a:ln>
        </p:spPr>
      </p:pic>
      <p:pic>
        <p:nvPicPr>
          <p:cNvPr id="1453" name="图片 119810" descr=""/>
          <p:cNvPicPr/>
          <p:nvPr/>
        </p:nvPicPr>
        <p:blipFill>
          <a:blip r:embed="rId2"/>
          <a:stretch/>
        </p:blipFill>
        <p:spPr>
          <a:xfrm>
            <a:off x="730080" y="3564000"/>
            <a:ext cx="7782120" cy="942840"/>
          </a:xfrm>
          <a:prstGeom prst="rect">
            <a:avLst/>
          </a:prstGeom>
          <a:ln w="0">
            <a:noFill/>
          </a:ln>
        </p:spPr>
      </p:pic>
      <p:sp>
        <p:nvSpPr>
          <p:cNvPr id="1454" name="矩形 119811"/>
          <p:cNvSpPr/>
          <p:nvPr/>
        </p:nvSpPr>
        <p:spPr>
          <a:xfrm>
            <a:off x="7812000" y="1628640"/>
            <a:ext cx="513000" cy="4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4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5" name="图片 118785" descr=""/>
          <p:cNvPicPr/>
          <p:nvPr/>
        </p:nvPicPr>
        <p:blipFill>
          <a:blip r:embed="rId1"/>
          <a:stretch/>
        </p:blipFill>
        <p:spPr>
          <a:xfrm>
            <a:off x="433440" y="1695600"/>
            <a:ext cx="8277120" cy="3466800"/>
          </a:xfrm>
          <a:prstGeom prst="rect">
            <a:avLst/>
          </a:prstGeom>
          <a:ln w="0">
            <a:noFill/>
          </a:ln>
        </p:spPr>
      </p:pic>
      <p:sp>
        <p:nvSpPr>
          <p:cNvPr id="1456" name="矩形 118786"/>
          <p:cNvSpPr/>
          <p:nvPr/>
        </p:nvSpPr>
        <p:spPr>
          <a:xfrm>
            <a:off x="7812000" y="2781360"/>
            <a:ext cx="51300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7761" descr=""/>
          <p:cNvPicPr/>
          <p:nvPr/>
        </p:nvPicPr>
        <p:blipFill>
          <a:blip r:embed="rId1"/>
          <a:stretch/>
        </p:blipFill>
        <p:spPr>
          <a:xfrm>
            <a:off x="466560" y="1776240"/>
            <a:ext cx="8210880" cy="330552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7762"/>
          <p:cNvSpPr/>
          <p:nvPr/>
        </p:nvSpPr>
        <p:spPr>
          <a:xfrm>
            <a:off x="7740720" y="2781360"/>
            <a:ext cx="512640" cy="407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01T09:17:52Z</dcterms:modified>
  <cp:revision>3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